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5C1-7BA4-464E-B79C-EBC5FB54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A08-6399-4DB5-90FB-382C21D8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F62-5D8F-4036-B90C-78638D24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76E-3476-42D7-AC96-CAAE6F41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694-273B-4FE5-9E97-C53AFC11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42F-71EA-4D7C-8D8F-F4C79C90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3520-5C17-4F10-B533-2DB7D7D1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2F6-9E57-4921-BEF2-872B2A59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E667-13BB-4403-B9D1-06FEA1EF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57C-F15C-4917-BA0B-598EC416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0FB-1687-4AAF-8655-CE7A01FD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EE8-54FB-4601-B755-4B83E83B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199-7BEE-4FF7-885C-4BC278AC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08C5-B353-4618-ADF8-05D2540B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0025-09B9-498A-AFFB-AB78DADE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1ED-A220-4A5F-96C2-F7E559F6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C9E-A6C0-43D4-B6B2-D372935A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917-D412-4850-92E6-4944EB36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0632-6487-430C-ADAB-847822CDD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ECCD-A387-436C-BA06-1127E097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C29-D878-4FC4-B0DF-FEB3BC91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4F50-B2AC-46B6-90C9-A694DFC4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EC8-3A14-49BE-9056-2CECADAB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72F-C286-4A1D-958E-66A33F33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2F34-F7A8-4CEF-916F-A48C2E63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CFBA-3FCF-454D-8975-9C940E19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B5DD-8131-4F1B-8511-E06D507F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6D6-9F18-4F64-94B0-C8F6DFC4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BDE-3CDB-4165-82F4-911046AA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59C0-80A0-4D82-B633-6D0209CF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05B8-7EF5-474A-B216-60E59029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4367-B21F-486B-B496-53F9FADBC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4F52-5FD4-4675-91B2-0D53357E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4A8-A415-4BB7-9A3C-B821EEFF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C09-7B28-4B4D-A17F-97591D22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1D9-FA83-4548-A8A2-D00835F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122-6BAB-4E33-B9DE-0AD44E49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CFB-42CA-49C0-A7A6-99182DF3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B1E-8F86-4BB1-A064-125ED501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7C1B-A6B7-405E-B27D-5D45FC4C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B647-8FA7-49DB-B934-E99531B4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B28-9407-42F3-96DA-363AE85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E21A-B95F-4737-9AF6-EEEE929B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1B99-4650-42DF-A7C1-C8055B9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657C-68BA-43DE-A4C6-BA2E734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7C4-1759-4C8B-8419-084FA46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AFA-E996-4D45-A352-99C479B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393-31C7-4718-AAF2-15232DE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DD7-4226-4753-BC06-DF64123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0991-C0C8-4B73-94A4-FC83488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9B78-E89E-4691-B95B-A5EB110C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9A28-9CD2-4F39-AF64-BC37005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DB43-678E-4374-B88B-3A9C919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5A6F-68BC-43EC-9436-CEB590F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0562-CB23-4C84-B0CF-495CDD4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29C3-84B7-4728-B6C3-670BFB3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9B8-E38D-4E30-8ACD-6C45F239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A8D8-549F-41DB-88F5-5978D74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8434-12F4-4A7F-B0AC-B4A4135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D665-7450-4A84-A94C-BDF86EB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36B1-8A0D-4BDA-8BE1-97304CC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BDF3-5D7A-4C0A-A8AE-0104351D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C0F2-91C9-4FD3-86D1-DC2CE094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7598-AE3F-4B58-9AD4-8DE14967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5B23-2B71-4811-B4E7-2C756491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D0CF-67F0-4935-A324-7159405D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0F42-9D84-4100-A299-39857D1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DFB-1603-4150-A93C-DFBE46A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02F0-C917-4BD4-BFC3-3FF5F21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D911-D0BA-479C-9C90-3859DDA0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CFC9-8E4A-4D83-BEBE-C3F33D9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3743-B95B-426E-8B5E-9D5E2DD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88BF-F696-4264-A176-B8719AD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05C2-4276-478B-A9F8-65CA645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5E5F-9320-4A75-BF84-B285F5AA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8441-45A4-4741-8E37-6DA42E6D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E594-CBCF-44E5-B336-E94888FE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D3B9-C6AC-4F03-9B2F-C8D27157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24A-A154-4FF9-ACC0-4CEDFBD4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8CE8-C784-4453-8DE8-902EE45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B244-8506-4AAF-A6D2-4B7F640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2192-4BFF-4006-B506-D1FBCDB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7E74-34C2-45B8-A548-AE23FA0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56E9-9C5E-4403-B653-D519536C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20DB-261B-4A7E-B710-DCC7CFE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0B59-9734-4408-8764-DCB6658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4128-5130-4062-AB6D-72F96C3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6CCE6-DD37-4300-8CAE-085A190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A1FB-31FA-447E-A552-6D34ED8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138-4F4D-4541-B95B-E4BDB28C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6B0E-F0D8-40B9-852F-DCC77F0F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D2E0-3F9B-4FA0-979C-A3A07CD5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8006-E0DB-4CE9-86BC-B2C6DE54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C163-FF61-47F4-A41E-CB4547A4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26DC-942E-4C21-BCC0-8A3B5B9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E997-8D6B-47E4-B52A-E040A83A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74DD-62F9-4269-8DFF-B488329A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39DE-CBA8-4C84-A801-A41E67B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6D18-882A-4C45-9779-AC580EA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ED9C-EB69-4820-994C-E8F8925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414-C646-4276-BDDA-98A37E8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162E-40C4-4A02-8AE4-10339C3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372F8-CE09-4E1A-96A3-03118945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4426-C338-4BA5-8D32-4990F8D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8790-EBAB-4357-AB3C-011C80F3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C8CF-9FE1-4478-A504-0976DE1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DA07-6FDB-4109-A422-09F3747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48F26-35E0-41B2-9C62-CA2B9B3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BAB2-845F-46DC-98BF-4788DF68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B809A-42E1-4FA3-9E7F-402709B8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2623F-C50F-4BB0-A30C-D0C2DD6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1A8-DFAC-4738-B60A-DA98914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719B-52CB-44E6-9A6F-8358145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1E80-4BBC-42AA-9AF9-308DB40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4AA3-F56A-41ED-B47D-D45FE30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840F-ED53-4C02-AC0C-D308482E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F5150-9AC0-44BF-ABE2-73694F1A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24E-B94C-4ED4-A38E-1D48B83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67A-1284-436C-A682-9E4E70042DE9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04D5-4100-448A-B2E9-01A8D3FCCAA3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85BD-B31F-4F9B-93DA-BEE7E80FC3E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154C-841E-464D-B5C5-539D6A1F7E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354-65F6-495E-9EB8-FB34552854E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2360-6A64-4919-A249-3854A765C3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0E8-E809-4B5A-B2EA-FE820781F657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578-CDDC-4B18-914E-BFAEE84CA8C9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6B4-FD19-40B4-8AD3-B6F26085CB39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D82-4287-4780-9596-46A8236A638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ACD-DB9A-4469-BCA1-DE1137BC6EC0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2F0-BDFB-4F99-8061-8EB6DE81EA39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C07-1729-4226-8A87-F4F3FE8BEC36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AF56-074F-421F-BBD2-C38BDB22A63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maxbankuptcybootcamp.com/" TargetMode="External"/><Relationship Id="rId3" Type="http://schemas.openxmlformats.org/officeDocument/2006/relationships/hyperlink" Target="http://www.maxgardnerlaw.com/" TargetMode="External"/><Relationship Id="rId4" Type="http://schemas.openxmlformats.org/officeDocument/2006/relationships/hyperlink" Target="mailto:maxgardner@maxgardner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lphabet Prob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2.01.  Conveyance of Mortgage Lo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ere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s, Transfers, Assigns, Sets Over and Otherwise Conveys to the Depositor, without recourse, All the Right, Title and Interest of such Seller in and to the Applicable Mortgage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les Shall be As Provided in this Agre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y Shall be On or Before the Applicable Cut-Off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ocuments Shall be Delivered to the Master Servicer Before the Cut-Of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ster Servicer Confirms that All Sellers have Made Such Transfers and Deposits Before the Cut-Of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ers by Such Deposits have Conveyed to the Trustee for Benefit of Certificate Holders All Right, Title and Interest In and To the Mortgage Lo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Transfers and Sells All Interest and Principal Received After Cut-Off Date to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as Entered this Agreement in Consideration for Purchase of Mortgage Loans by the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as Agreed to Take All Actions Provided Her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Sets Over and Conveys Mortgage Loans to Depositor for Benefit of Certificate Holders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58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ositor Agrees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Otherwise Conv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Recou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Right, Title and Interest in the Mortgage Lo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IVER All Documents to the Trustee per Transfer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ecute and Deliver Any Other Documents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inions of Counsel to Rating Agenci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ales are True S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ocuments Executed per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ocuments Transferred and Delivered per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rtgage Loan More than 30 Days Delinqu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epresentations and Warranties of Sellers and Depositor Have Been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Opinion Letters (cont’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Mortgage Loans Does Not Result in Imposition of the Tax on Prohibited Transactions on Trust Funds by Sections 860F(a)(2) and 860G(d) of the IRS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rust is properly formed Under the REMIC Tax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rust Qualifies as a REMIC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9940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ligations of the MD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Timely Receipt of All Loan Documents for Each Loan by Loan Number and Borrower Identification Number per Mortgage Loan Sched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Unbroken Chain of Transfers and Assignments of All Loan Documents from All Sellers to Depositor and from Depositor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Proper Endorsement of All Mortgage Notes from All Sellers to Depositor and from Depositor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ligations of MD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Transfer and Delivery Receipts for Bearer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Allonges Permanently Affixed to All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Mortages and Deeds of Trust Exectued and Delivered per Terms of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Confirmation Reports with Master Serv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Exception Reports with Master Serv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ligations of MD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to Master Servicer Certificate of Compliance with All Transfer and Receipt Conditions for Each Mortgage Loan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Electronic Data for Each Mortgage Loan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Each Mortgage Loan File in Safe, Secure and Fire Proof Storage Facility and Index Each and Every Such Loan in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_____The Loan Orig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B_____The Warehouse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_____The Spons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_____The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E_____The Master Servicer for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_____The Trustees for Certificate 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G_____The Master Document Custo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tgage No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ed of T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tg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et Sale and Purchase Agre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e Sale Legal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ng Agency True Sale Confirm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ling and Servicing Agre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ster Servicing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ster Document Custodial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iginal Mortgage 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&amp; Transfer Receipts for 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e Sale Agreements (Asset Sale &amp; Purchase Agreemen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&amp; Transfers of Mortgages &amp; Deeds of Trust (whether or not Recorded Locally or thru M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e Sale Legal Opin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s or Wire Transfers of $$$ for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ing Agency True Sale Confirmation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Loan Closing Document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ations and Warrantie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5b1b"/>
                </a:solidFill>
                <a:latin typeface="Calibri"/>
              </a:rPr>
              <a:t>A to B-----Originator to Warehouse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253e"/>
                </a:solidFill>
                <a:latin typeface="Calibri"/>
              </a:rPr>
              <a:t>B to C-----Warehouse Lender to Spo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 to D-----Sponsor to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to E-----Depositor to Master Servi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 to F-----Master Servicer to Trus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F to G-----Trustee to Master Document       Custodian for Trust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Focus o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UNBROKE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 to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to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to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to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to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so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nator) to C (Sponsor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G (Master Document Custodian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(Warehouse Lende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F (Trustee) Assignment of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sor) to F (Trustee) Assignment of Deed of Trust or Mort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or) to G (Master Custodian)  Assigment of Deed of Trust or Mort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 ) to E (Depositor) Assignment of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Cannot be Used to Assign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d of Trust Cannot be Used to Negotiate a Mortgag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gage Note is Negotiated by Endorsement or Delivery and Not As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e of Execution of Document is After Cut-Off Date for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Not Permanently Affixed to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Does Not Identify Lo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rized in the following jurisidicit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kota County,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nepin County,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val County, F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kalb County, 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Stamped on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ipt Writing of Name Not Leg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ed as Vice President or Secre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or Has No Offices in County where Document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e Signed and Dated Notarized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ry’s Name Stamped on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Pre-Printed Fill-in-Blanks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PS Default Solutions,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erly Fide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mmis Default Solutions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cCalla Raymer, Pite Duncan, Johnson, et 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Default Exchange,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rrett Daff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Bankruptcy Services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ce Vander L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American Default Sol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S Financial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prio &amp; Kriesem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ssignments of Mortgages &amp;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llo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Indors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of Defa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of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Lost Note or Assignment Affidav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ify Compl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ify Discovery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for Any Alphabet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gag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oling and Servicing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t Purchase and Sale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Sale Opinions and Rating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Document Custodial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d Transfer and True Sale Agreed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cles 3 and 9 of the U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80160" cy="1427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 Ratings Driving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orney Performance Ra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Event is Ti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ing and Clos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PS Desktop is Really Time Tracking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, Yellow and Blue Fi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3 &amp; 3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46160" y="-55440"/>
            <a:ext cx="8759880" cy="1403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Application for Origina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C and Master Servicer Must Ap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and Pay for Transit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Custodial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Transit Insurance to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Prepare Return Forms and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Must be by Secure C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rmal Time for Receipt is 4 to 8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broken Chain of Transfers and Assignments Pursuant to the Loan Agre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less Otherwise Agreed Means CANNOT prove Perfection Soley by UC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of Agreements was to Make Mortgage Loans FDIC &amp; Bankruptcy Remote for Origninators and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 Not Really Standing but Perfection and Ownersh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session of Original Note Does NOT Prove either Ownership or Perf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44600" y="-42840"/>
            <a:ext cx="8480160" cy="153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 Max Gardner,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Gardner’s Bankruptcy Boot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O. Box 1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ar, NC 28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www.maxbankuptcybootcamp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www.maxgardnerlaw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4"/>
              </a:rPr>
              <a:t>maxgardner@maxgardner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Direct:  704.418.26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103(a)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ermit the continued expansion of commercial practices through custom, usage,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eement of the par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ment mean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rgain of the parties in fact, as found in their langu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nferred from other circumstances, including course of performance, course of dealing, or usage of trade . . 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means the total legal obligation that results from the parties’ agreement as determined by this Chapter as supplemented by any other applicable laws (including the agreement of the parties) . . 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live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 .  With respect to an instrument, a tangible document of title, or chattel paper, mean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ntary transfer of posses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ld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ans the person in possession of a negotiable instrument that is payable either to bearer or to an identified person that is the person in possession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umption with respect to a fact means that that the Trier of fact must find the existence of the facts unless and until evidence is introduced that supports a finding of its nonexistenc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302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ariation by Agre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  The effect of provisions of this Chap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be varied by agreeme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  Good faith, diligence and reasonableness are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ly term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may not be changed by 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  The presence of the words “unless otherwise agreed”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oes not imply that other provisions of this Chapter may not be varied by an agreement of the par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9:27:36Z</dcterms:created>
  <dc:creator>Bob</dc:creator>
  <dc:description/>
  <dc:language>en-US</dc:language>
  <cp:lastModifiedBy>user1</cp:lastModifiedBy>
  <dcterms:modified xsi:type="dcterms:W3CDTF">2010-09-14T16:12:16Z</dcterms:modified>
  <cp:revision>6</cp:revision>
  <dc:subject/>
  <dc:title>Max Gardner’s Bankruptcy Boot Camp</dc:title>
</cp:coreProperties>
</file>